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3B49-70C4-4221-8208-BC77B157A40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F48-092A-495F-808E-967DD5A6390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BAE8-469D-4F82-B158-26B246CBC21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B7B-E42E-4050-9902-EE2E844C2E4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92C-1B34-444F-82F1-40F087E0A45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1353-03AF-40E3-9EDA-5911A829527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E41B-3CB2-467A-A97E-50D128743CA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249D-F31A-40FB-AE2F-07B86C25F1D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01A-5E6E-410E-A316-1BA6617F190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B35-CF93-4EB6-B252-38C6CD6F7B4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FBBC-1CC1-4607-AE5E-88F1C4A9B17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E7D-B6A4-44FB-BBFA-2CEC18AD863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FEB-165F-4F2B-B221-87CAA40F463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783-572D-4C62-9619-A04368382C8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3A2-E4E3-4A3D-9A03-3709C6C7E8F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D3D7-A124-490B-9174-C76FF270B1A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DED9-697C-40B4-ADA4-E52AFBB277E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4821-C8A1-4F84-AECF-AF438B91CA9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46E-4A90-4A43-8159-10AF20180CC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0AE8-8F72-480D-AB74-797A695149A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BA7-FBFF-458F-BA99-47463A0055D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138-DF00-427D-AA08-AEA7F5B67A9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45F-0BA0-43B6-9570-98102988219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317D-A1C4-4221-A2BA-2450708448D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B42-238B-4079-AA42-60FABB34E44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230-443F-4BC2-9C84-DD86389B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412-E3AD-4430-A9DA-F3F31E03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2F0-EDB0-4943-911D-F0300B7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6BE-0B1D-47BC-A5E9-EB45CA9B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25E-550F-449B-8EE0-2A61CE1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3FC-DD94-4F66-BFF6-D483DF65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349-6D45-47D4-9CBA-0BA6D30D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02B-C1B8-4249-B3AE-E4C7D8C7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0C2-FE99-43F1-A17A-1F33948F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9A2-41DA-469B-9AA8-3ABB32B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3F6-BD50-44A7-8DE7-71C08AE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48C-E7C0-4836-BBFD-54199DE5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0A05-D6EE-40A6-BD16-7DE9CD4C25B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43B-41BF-43E5-966E-CDF6A85C67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ЦИСТЕ ВИЛИЦ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31-33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Класификација виличних циста, клиничка слика и дијагностика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клиничке карактеристике појединих циста, лечење виличних циста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компликације виличних цист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206-09E0-4375-922D-0F7665A29B0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ференцијална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22120" y="1660680"/>
            <a:ext cx="86742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толошка стања која треба диференцирати у односу на цисте могу да се класификују у три основне гру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паљенска обољења кости ( периапикалне лезије остеомијелитис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туморске коштане лезије ( централни гигантоцелуларни гранулом, анеуризматска коштана цист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мори вилица ( амелобластом, одонтогени миксом, мултипли мијелом или метастатски тумо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092-0F7A-45B6-94CB-0724B1DCACC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57200" y="1612800"/>
            <a:ext cx="8182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Е ЦИСТЕ КОД НОВОРОЂЕНЧ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Бонова зрна, Епштајнове пер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меким ткивима алвеоларног гребена или на медијалној линији неп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гледају као ситни, беличасти или жућкасти чворићи, величине   2-3 мм.Спонтано се празне у току првих неколико недеља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568440" y="4262400"/>
            <a:ext cx="2646360" cy="197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2"/>
          <a:stretch/>
        </p:blipFill>
        <p:spPr>
          <a:xfrm>
            <a:off x="4114800" y="4308480"/>
            <a:ext cx="281304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C3B9-111F-4882-870E-EB4901AD526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44600" y="1660680"/>
            <a:ext cx="820584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ГЕНЕ КЕРАТОЦИСТЕ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ОДОНТОГЕНИ КЕРАТОТУМ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ебност ових циста заснована је на следећим особина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сте посебне хистолошке грађе са веома танким омота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агресивније су и брзо уништавају велике површине кост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нетрирајући у околна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шко се уклањају и имају висок степен рецид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 бити удружене са Горлин- Голцовим синдр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FF03-ED2C-434A-8529-F70FEE54391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754200" y="1708200"/>
            <a:ext cx="7543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F000-FBD6-4098-AFE9-0FE0886995F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3770280" cy="251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rcRect l="0" t="0" r="2486" b="12648"/>
          <a:stretch/>
        </p:blipFill>
        <p:spPr>
          <a:xfrm>
            <a:off x="4795920" y="1747800"/>
            <a:ext cx="3938400" cy="253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rcRect l="0" t="0" r="1580" b="17654"/>
          <a:stretch/>
        </p:blipFill>
        <p:spPr>
          <a:xfrm>
            <a:off x="2367000" y="4025880"/>
            <a:ext cx="37339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77C4-E591-450B-BAC3-9830A5C032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33440" y="1432080"/>
            <a:ext cx="8192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ЛИКУЛАР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лезије које се развијају око формиране круне неизраслог зуба и чији је сакус припојен за његов в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је карактеристичан : унилокуларно расветљење округластог или овалног облика, јасно ограничено према околној кости зоном периферне кондензације са сенком круне зуба у лу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:\Users\Zoran\Downloads\oralna hirurgija\slike\images (22).jpg"/>
          <p:cNvPicPr/>
          <p:nvPr/>
        </p:nvPicPr>
        <p:blipFill>
          <a:blip r:embed="rId1"/>
          <a:stretch/>
        </p:blipFill>
        <p:spPr>
          <a:xfrm>
            <a:off x="1695600" y="4103640"/>
            <a:ext cx="2630160" cy="2235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Zoran\Downloads\oralna hirurgija\slike\images (21).jpg"/>
          <p:cNvPicPr/>
          <p:nvPr/>
        </p:nvPicPr>
        <p:blipFill>
          <a:blip r:embed="rId2"/>
          <a:stretch/>
        </p:blipFill>
        <p:spPr>
          <a:xfrm>
            <a:off x="5249880" y="3981600"/>
            <a:ext cx="249084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EAF7-219D-40C2-A475-F0602694E34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1"/>
          <a:srcRect l="27411" t="20422" r="24724" b="14526"/>
          <a:stretch/>
        </p:blipFill>
        <p:spPr>
          <a:xfrm>
            <a:off x="349200" y="1936800"/>
            <a:ext cx="3500640" cy="3717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616040" y="5197320"/>
            <a:ext cx="21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&gt;</a:t>
            </a:r>
            <a:r>
              <a:rPr b="1" lang="sr-Latn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2,5 – 3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rcRect l="13024" t="21020" r="2172" b="33348"/>
          <a:stretch/>
        </p:blipFill>
        <p:spPr>
          <a:xfrm>
            <a:off x="4143240" y="2695680"/>
            <a:ext cx="47991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FFF7-24F2-4E3D-AD78-143C6EFB242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3444840"/>
            <a:ext cx="5094360" cy="299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594240" y="1484280"/>
            <a:ext cx="55497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FFA3-0FA6-4263-83A6-A73A9F20F25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457200" y="1647720"/>
            <a:ext cx="8277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РУПЦИО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у суштини фоликуларне цисте које се формирају у меком ткиву у току ницања стал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Zoran\Downloads\oralna hirurgija\slike\images (27).jpg"/>
          <p:cNvPicPr/>
          <p:nvPr/>
        </p:nvPicPr>
        <p:blipFill>
          <a:blip r:embed="rId1"/>
          <a:stretch/>
        </p:blipFill>
        <p:spPr>
          <a:xfrm>
            <a:off x="2097000" y="3327480"/>
            <a:ext cx="48848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C748-7D07-4561-9012-D628E3FAB3D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69800" y="1647720"/>
            <a:ext cx="816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АТЕРАЛНЕ ПЕРИОДОНТ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Zoran\Downloads\oralna hirurgija\slike\LateralPeriodontalCyst_1.png"/>
          <p:cNvPicPr/>
          <p:nvPr/>
        </p:nvPicPr>
        <p:blipFill>
          <a:blip r:embed="rId1"/>
          <a:stretch/>
        </p:blipFill>
        <p:spPr>
          <a:xfrm>
            <a:off x="674640" y="2938320"/>
            <a:ext cx="380052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Users\Zoran\Downloads\oralna hirurgija\slike\lateral-periodontal-cyst-periapical.jpg"/>
          <p:cNvPicPr/>
          <p:nvPr/>
        </p:nvPicPr>
        <p:blipFill>
          <a:blip r:embed="rId2"/>
          <a:srcRect l="3391" t="6446" r="2633" b="5454"/>
          <a:stretch/>
        </p:blipFill>
        <p:spPr>
          <a:xfrm>
            <a:off x="4811760" y="2874960"/>
            <a:ext cx="370980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ED5-C992-48BF-8A5D-40E2FFE0ED1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иличне цист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85920" y="1960560"/>
            <a:ext cx="8408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Виличне цисте су патолошке творевине које се развијају у коштаном ткиву вилица и које се састоје од омотача и садржа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мотач виличних циста састоји се од два сло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0000"/>
                </a:solidFill>
                <a:latin typeface="Palatino Linotype"/>
              </a:rPr>
              <a:t>Унутрашњег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изграђеног од епителног ткив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0000"/>
                </a:solidFill>
                <a:latin typeface="Palatino Linotype"/>
              </a:rPr>
              <a:t>Спољашњег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изграђеног од 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и слој може бити изграђен од различитих врста епитела, у зависности од врсте 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7B66-3D26-4C79-8CB5-3044F5EB6D0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433440" y="1623960"/>
            <a:ext cx="825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Е ЦИСТЕ КОД ОДРАС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Zoran\Downloads\oralna hirurgija\slike\imageszuuuz.jpg"/>
          <p:cNvPicPr/>
          <p:nvPr/>
        </p:nvPicPr>
        <p:blipFill>
          <a:blip r:embed="rId1"/>
          <a:stretch/>
        </p:blipFill>
        <p:spPr>
          <a:xfrm>
            <a:off x="2340000" y="2709720"/>
            <a:ext cx="4289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8F3-8FE9-4746-9F8A-4F5295ADDE1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" y="1503360"/>
            <a:ext cx="8313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ЗОПАЛАТИНАЛНЕ ЦИСТЕ ( цисте инцизалног канал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ЗОЛАБИЈ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вијају се у коштаном ткиву максиле, у пределу медијалне линије и сматра се да воде порекло од епителних ткива инцизал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C:\Users\Zoran\Downloads\oralna hirurgija\slike\images (30).jpg"/>
          <p:cNvPicPr/>
          <p:nvPr/>
        </p:nvPicPr>
        <p:blipFill>
          <a:blip r:embed="rId1"/>
          <a:stretch/>
        </p:blipFill>
        <p:spPr>
          <a:xfrm>
            <a:off x="1663560" y="3319560"/>
            <a:ext cx="2343240" cy="312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54"/>
          <p:cNvPicPr/>
          <p:nvPr/>
        </p:nvPicPr>
        <p:blipFill>
          <a:blip r:embed="rId2"/>
          <a:srcRect l="2458" t="2225" r="5619" b="4365"/>
          <a:stretch/>
        </p:blipFill>
        <p:spPr>
          <a:xfrm>
            <a:off x="4871880" y="3405240"/>
            <a:ext cx="25639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D8EE-647D-4568-B44C-9394395188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1701" t="3967" r="52334" b="59701"/>
          <a:stretch/>
        </p:blipFill>
        <p:spPr>
          <a:xfrm>
            <a:off x="757080" y="1612800"/>
            <a:ext cx="75456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9FC2-9F0B-4A2C-B314-C5AC581FCD5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1"/>
          <a:srcRect l="13745" t="12016" r="17253" b="17623"/>
          <a:stretch/>
        </p:blipFill>
        <p:spPr>
          <a:xfrm>
            <a:off x="565200" y="2273400"/>
            <a:ext cx="2840040" cy="246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2"/>
          <a:srcRect l="14405" t="16100" r="7758" b="19509"/>
          <a:stretch/>
        </p:blipFill>
        <p:spPr>
          <a:xfrm>
            <a:off x="5029200" y="2273400"/>
            <a:ext cx="3381480" cy="2503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80960" y="5041800"/>
            <a:ext cx="31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ста папиле пала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5005440" y="5173560"/>
            <a:ext cx="38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зопалатинал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6379-8C12-4804-AA0F-C4E2D2CD15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rcRect l="23062" t="11454" r="19316" b="10030"/>
          <a:stretch/>
        </p:blipFill>
        <p:spPr>
          <a:xfrm>
            <a:off x="204840" y="1395360"/>
            <a:ext cx="2873160" cy="29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rcRect l="14547" t="9248" r="4751" b="6063"/>
          <a:stretch/>
        </p:blipFill>
        <p:spPr>
          <a:xfrm>
            <a:off x="5691240" y="1371600"/>
            <a:ext cx="3303360" cy="309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rcRect l="11645" t="36115" r="28557" b="1391"/>
          <a:stretch/>
        </p:blipFill>
        <p:spPr>
          <a:xfrm>
            <a:off x="2671920" y="3765600"/>
            <a:ext cx="33861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E89E-6846-4202-8E9A-6D2B52EA8F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44600" y="1587600"/>
            <a:ext cx="824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УЛАР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заступљеније од свих виличних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C:\Users\Zoran\Downloads\oralna hirurgija\slike\images (25).jpg"/>
          <p:cNvPicPr/>
          <p:nvPr/>
        </p:nvPicPr>
        <p:blipFill>
          <a:blip r:embed="rId1"/>
          <a:stretch/>
        </p:blipFill>
        <p:spPr>
          <a:xfrm>
            <a:off x="2330280" y="2994120"/>
            <a:ext cx="413244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2DB-5418-4B2B-91A9-25796EC56B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480960" y="1623960"/>
            <a:ext cx="824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настају из периапикалних лезија, када у току њиховог развоја настане пролиферација епитела са стварањем микропукотине, која се шири и у чијој се шупљини накупља садржај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:\Users\Zoran\Downloads\oralna hirurgija\slike\download (28).jpg"/>
          <p:cNvPicPr/>
          <p:nvPr/>
        </p:nvPicPr>
        <p:blipFill>
          <a:blip r:embed="rId1"/>
          <a:stretch/>
        </p:blipFill>
        <p:spPr>
          <a:xfrm>
            <a:off x="392040" y="3929040"/>
            <a:ext cx="29862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:\Users\Zoran\Downloads\oralna hirurgija\slike\images (26).jpg"/>
          <p:cNvPicPr/>
          <p:nvPr/>
        </p:nvPicPr>
        <p:blipFill>
          <a:blip r:embed="rId2"/>
          <a:stretch/>
        </p:blipFill>
        <p:spPr>
          <a:xfrm>
            <a:off x="6102360" y="3672000"/>
            <a:ext cx="26161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:\Users\Zoran\Downloads\oralna hirurgija\slike\pg.jpg"/>
          <p:cNvPicPr/>
          <p:nvPr/>
        </p:nvPicPr>
        <p:blipFill>
          <a:blip r:embed="rId3"/>
          <a:stretch/>
        </p:blipFill>
        <p:spPr>
          <a:xfrm>
            <a:off x="3726000" y="3205080"/>
            <a:ext cx="20476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C3E-64DF-4466-99D4-748C58A34B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9" name="Picture 8" descr="C:\Users\Zoran\Downloads\oralna hirurgija\slike\911e72512b_01.jpg"/>
          <p:cNvPicPr/>
          <p:nvPr/>
        </p:nvPicPr>
        <p:blipFill>
          <a:blip r:embed="rId1"/>
          <a:stretch/>
        </p:blipFill>
        <p:spPr>
          <a:xfrm>
            <a:off x="590400" y="1563840"/>
            <a:ext cx="3598920" cy="453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Users\Zoran\Downloads\oralna hirurgija\slike\imageshjjjz.jpg"/>
          <p:cNvPicPr/>
          <p:nvPr/>
        </p:nvPicPr>
        <p:blipFill>
          <a:blip r:embed="rId2"/>
          <a:stretch/>
        </p:blipFill>
        <p:spPr>
          <a:xfrm>
            <a:off x="5479920" y="1793880"/>
            <a:ext cx="284652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FD0D-B54F-4CF5-8171-78D78FD9E52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444600" y="1647720"/>
            <a:ext cx="8242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ОДОНТ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вијају се у латералном пародонцијуму ниже од цервикалног припоја или од епителних ћелија пародонцијума или од припојног епи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икују се од латералних периодонтал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р настају због  утицаја хронич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ламације из пародонталног џе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21474" t="15304" r="20932" b="18630"/>
          <a:stretch/>
        </p:blipFill>
        <p:spPr>
          <a:xfrm>
            <a:off x="5910120" y="3236760"/>
            <a:ext cx="32338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D72-0E73-444A-8C89-D5B2ED45EFE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42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57200" y="1671480"/>
            <a:ext cx="822960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виличних циста ј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хируршко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може се, у основи, извести применом два базична посту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рсупијализација ( делимично уклањање цистичног сак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уклеација ( потпуно уклањање цистичног сак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545-28E8-4618-A158-E3906F71D9E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071720" y="1574640"/>
            <a:ext cx="6797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Класификациј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ветске здравствене организациј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je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основи поделила све виличне епителне цист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а две груп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развој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фламатор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Развој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виличне цист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у лезије које 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олиферацијом епител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исутног у коштаном ткиву вилиц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и чему је та пролиф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без утицаја инфламациј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фламатор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цисте се развијају од одонтогеног епител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д непосредним утицајем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нфламације и сталних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ритација бактеријске природ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A9B-8441-447D-8E1C-CAE706A57FF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469800" y="1419120"/>
            <a:ext cx="8169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РСУПИЈАЛИЗАЦИЈА ( цистостомија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rtsch 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имично уклањање цистичног сакуса хируршким поступком, при чему се уклања само површински део сакуса са танким слојем кости или само са периостом. Преостали део сакуса остаје у кости, као шпаг усне дуп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8"/>
          <p:cNvSpPr/>
          <p:nvPr/>
        </p:nvSpPr>
        <p:spPr>
          <a:xfrm>
            <a:off x="5734080" y="3728880"/>
            <a:ext cx="401760" cy="1011240"/>
          </a:xfrm>
          <a:custGeom>
            <a:avLst/>
            <a:gdLst>
              <a:gd name="textAreaLeft" fmla="*/ 0 w 401760"/>
              <a:gd name="textAreaRight" fmla="*/ 402120 w 4017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536" h="1200">
                <a:moveTo>
                  <a:pt x="296" y="0"/>
                </a:moveTo>
                <a:cubicBezTo>
                  <a:pt x="200" y="76"/>
                  <a:pt x="104" y="152"/>
                  <a:pt x="56" y="240"/>
                </a:cubicBezTo>
                <a:cubicBezTo>
                  <a:pt x="8" y="328"/>
                  <a:pt x="0" y="440"/>
                  <a:pt x="8" y="528"/>
                </a:cubicBezTo>
                <a:cubicBezTo>
                  <a:pt x="16" y="616"/>
                  <a:pt x="64" y="696"/>
                  <a:pt x="104" y="768"/>
                </a:cubicBezTo>
                <a:cubicBezTo>
                  <a:pt x="144" y="840"/>
                  <a:pt x="176" y="888"/>
                  <a:pt x="248" y="960"/>
                </a:cubicBezTo>
                <a:cubicBezTo>
                  <a:pt x="320" y="1032"/>
                  <a:pt x="488" y="1160"/>
                  <a:pt x="536" y="1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120"/>
          <p:cNvPicPr/>
          <p:nvPr/>
        </p:nvPicPr>
        <p:blipFill>
          <a:blip r:embed="rId1"/>
          <a:srcRect l="1317" t="7710" r="5663" b="9125"/>
          <a:stretch/>
        </p:blipFill>
        <p:spPr>
          <a:xfrm>
            <a:off x="2382840" y="3381480"/>
            <a:ext cx="4000320" cy="30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BA17-EA2A-489B-AE03-AB58CDC23E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43" name="Picture 3" descr="100"/>
          <p:cNvPicPr/>
          <p:nvPr/>
        </p:nvPicPr>
        <p:blipFill>
          <a:blip r:embed="rId1"/>
          <a:srcRect l="1588" t="537" r="0" b="0"/>
          <a:stretch/>
        </p:blipFill>
        <p:spPr>
          <a:xfrm>
            <a:off x="1011240" y="1612800"/>
            <a:ext cx="742320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041E-3976-490C-A629-0AB67CD351C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C:\Users\Zoran\Downloads\oralna hirurgija\slike\11f05.jpg"/>
          <p:cNvPicPr/>
          <p:nvPr/>
        </p:nvPicPr>
        <p:blipFill>
          <a:blip r:embed="rId1"/>
          <a:srcRect l="0" t="0" r="642" b="12978"/>
          <a:stretch/>
        </p:blipFill>
        <p:spPr>
          <a:xfrm>
            <a:off x="1984320" y="2084400"/>
            <a:ext cx="48182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E00C-685F-42F5-9B52-FDA4FF1F7B2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235"/>
          <p:cNvPicPr/>
          <p:nvPr/>
        </p:nvPicPr>
        <p:blipFill>
          <a:blip r:embed="rId1"/>
          <a:srcRect l="13688" t="15320" r="6093" b="7814"/>
          <a:stretch/>
        </p:blipFill>
        <p:spPr>
          <a:xfrm>
            <a:off x="444600" y="2490840"/>
            <a:ext cx="4014720" cy="3013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Users\Zoran\Downloads\oralna hirurgija\slike\images (24).jpg"/>
          <p:cNvPicPr/>
          <p:nvPr/>
        </p:nvPicPr>
        <p:blipFill>
          <a:blip r:embed="rId2"/>
          <a:stretch/>
        </p:blipFill>
        <p:spPr>
          <a:xfrm>
            <a:off x="4756320" y="2565360"/>
            <a:ext cx="39067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D68D-7877-4D7E-B3F1-A289E833904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111320" y="209376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9"/>
          <p:cNvSpPr/>
          <p:nvPr/>
        </p:nvSpPr>
        <p:spPr>
          <a:xfrm>
            <a:off x="2238480" y="228600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арсупијализација ерупционе ц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659-BA45-4933-B54B-8699BB05358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33440" y="1636560"/>
            <a:ext cx="82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КОМПРЕСИЈА – ДРЕНАЖА ЦИСТИЧНОГ САДР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236"/>
          <p:cNvPicPr/>
          <p:nvPr/>
        </p:nvPicPr>
        <p:blipFill>
          <a:blip r:embed="rId1"/>
          <a:srcRect l="10260" t="10762" r="11634" b="8618"/>
          <a:stretch/>
        </p:blipFill>
        <p:spPr>
          <a:xfrm>
            <a:off x="457200" y="2682720"/>
            <a:ext cx="3903840" cy="3106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2"/>
          <a:srcRect l="1738" t="551" r="0" b="4972"/>
          <a:stretch/>
        </p:blipFill>
        <p:spPr>
          <a:xfrm>
            <a:off x="4764240" y="2682720"/>
            <a:ext cx="410508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30C0-FE87-40A5-917E-6BE637F9EA6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1" descr=""/>
          <p:cNvPicPr/>
          <p:nvPr/>
        </p:nvPicPr>
        <p:blipFill>
          <a:blip r:embed="rId1"/>
          <a:stretch/>
        </p:blipFill>
        <p:spPr>
          <a:xfrm>
            <a:off x="404640" y="1620720"/>
            <a:ext cx="3789360" cy="217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sneža ciste 013"/>
          <p:cNvPicPr/>
          <p:nvPr/>
        </p:nvPicPr>
        <p:blipFill>
          <a:blip r:embed="rId2"/>
          <a:srcRect l="1210" t="-518" r="2475" b="0"/>
          <a:stretch/>
        </p:blipFill>
        <p:spPr>
          <a:xfrm>
            <a:off x="4608360" y="1576440"/>
            <a:ext cx="3837240" cy="223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12" descr=""/>
          <p:cNvPicPr/>
          <p:nvPr/>
        </p:nvPicPr>
        <p:blipFill>
          <a:blip r:embed="rId3"/>
          <a:srcRect l="2839" t="-545" r="8951" b="0"/>
          <a:stretch/>
        </p:blipFill>
        <p:spPr>
          <a:xfrm>
            <a:off x="385920" y="3970440"/>
            <a:ext cx="3860640" cy="2185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"/>
          <p:cNvPicPr/>
          <p:nvPr/>
        </p:nvPicPr>
        <p:blipFill>
          <a:blip r:embed="rId4"/>
          <a:stretch/>
        </p:blipFill>
        <p:spPr>
          <a:xfrm>
            <a:off x="4611600" y="3962520"/>
            <a:ext cx="3635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04BC-CAF6-4179-85BD-57F44D15F3C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469800" y="1697040"/>
            <a:ext cx="82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УКЛЕАЦИЈА ( цистектомија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rtsch I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потпуно уклањање цистичног сакуса и може се извести на два начина: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твореном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творен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техник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rcRect l="2835" t="10666" r="3390" b="14961"/>
          <a:stretch/>
        </p:blipFill>
        <p:spPr>
          <a:xfrm>
            <a:off x="2490840" y="3224160"/>
            <a:ext cx="417672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A88-CDE9-49DE-9511-EDC7B4D262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87" name="Picture 3" descr="126"/>
          <p:cNvPicPr/>
          <p:nvPr/>
        </p:nvPicPr>
        <p:blipFill>
          <a:blip r:embed="rId1"/>
          <a:srcRect l="1666" t="6541" r="2485" b="7507"/>
          <a:stretch/>
        </p:blipFill>
        <p:spPr>
          <a:xfrm>
            <a:off x="336600" y="1781280"/>
            <a:ext cx="4164120" cy="3994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130"/>
          <p:cNvPicPr/>
          <p:nvPr/>
        </p:nvPicPr>
        <p:blipFill>
          <a:blip r:embed="rId2"/>
          <a:srcRect l="1733" t="2685" r="1242" b="10872"/>
          <a:stretch/>
        </p:blipFill>
        <p:spPr>
          <a:xfrm>
            <a:off x="4776840" y="1781280"/>
            <a:ext cx="4067280" cy="3981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263-75FE-4D17-A41E-1BF19D13FE3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119"/>
          <p:cNvPicPr/>
          <p:nvPr/>
        </p:nvPicPr>
        <p:blipFill>
          <a:blip r:embed="rId1"/>
          <a:srcRect l="8836" t="11040" r="9760" b="9278"/>
          <a:stretch/>
        </p:blipFill>
        <p:spPr>
          <a:xfrm>
            <a:off x="1587600" y="1335240"/>
            <a:ext cx="59562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азвојне одонтогене цист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3467-D486-45C5-83CE-1BADF59413C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49440" y="2178000"/>
            <a:ext cx="762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ингивалне цисте новорођенч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Одонтогене кератоцист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примордијалн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Фоликула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рупци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Латералне периодонт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ингивалне цисте одрасл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ландуларно 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одонто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D3F0-DB68-4177-ACDF-1D7ECE47FC4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24420" t="21636" r="16823" b="10775"/>
          <a:stretch/>
        </p:blipFill>
        <p:spPr>
          <a:xfrm>
            <a:off x="157320" y="1828800"/>
            <a:ext cx="4343400" cy="3670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rcRect l="14829" t="27055" r="17262" b="2633"/>
          <a:stretch/>
        </p:blipFill>
        <p:spPr>
          <a:xfrm>
            <a:off x="4559400" y="1828800"/>
            <a:ext cx="4381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69A-3AD2-42AD-98A5-31C0FF327A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219"/>
          <p:cNvPicPr/>
          <p:nvPr/>
        </p:nvPicPr>
        <p:blipFill>
          <a:blip r:embed="rId1"/>
          <a:srcRect l="1895" t="0" r="0" b="1387"/>
          <a:stretch/>
        </p:blipFill>
        <p:spPr>
          <a:xfrm>
            <a:off x="974880" y="1612800"/>
            <a:ext cx="7250040" cy="45831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9"/>
          <p:cNvSpPr/>
          <p:nvPr/>
        </p:nvSpPr>
        <p:spPr>
          <a:xfrm>
            <a:off x="6448320" y="30924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ртви про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084D-2F98-4E32-BF0C-C7924D07FD9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rcRect l="0" t="472" r="1651" b="0"/>
          <a:stretch/>
        </p:blipFill>
        <p:spPr>
          <a:xfrm>
            <a:off x="1576440" y="1792440"/>
            <a:ext cx="591984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азвојне неодонтоген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FA4-A446-49F6-8846-89352CA663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57200" y="1936800"/>
            <a:ext cx="815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Цисте инцизивног 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азолабиј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фламаторне цист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4C2-3A5B-498A-948D-97155936196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57200" y="1949400"/>
            <a:ext cx="813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Радикулар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пикалне и латер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Резиду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ародонт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8DF-9265-4A67-A9C0-924AB14EBAA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4600" y="1757520"/>
            <a:ext cx="819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настанка циста су различити и зависе од врсте 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и предуслов за настанак циста јесте предходно присуство епителног ткива на месту будућег развоја 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12760" y="3444840"/>
            <a:ext cx="71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мбрионални епите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одонтоге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лездани епите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сиалоодонтогене и ретенцио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ални епите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гингив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 који ураст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постоперативне цисте мак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1932-C558-4655-B4AA-4E2F7FFB4F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33440" y="1671480"/>
            <a:ext cx="82296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за инициј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варање микрошупљ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већање обима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14"/>
          <p:cNvPicPr/>
          <p:nvPr/>
        </p:nvPicPr>
        <p:blipFill>
          <a:blip r:embed="rId1"/>
          <a:srcRect l="9558" t="16510" r="6382" b="14586"/>
          <a:stretch/>
        </p:blipFill>
        <p:spPr>
          <a:xfrm>
            <a:off x="1960560" y="3368520"/>
            <a:ext cx="5132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C185-F2A4-4DB1-B677-C6EE83B2C6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469800" y="1671480"/>
            <a:ext cx="826452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вој цистичних лезија вилица обично протиче са оскудном  симптоматологијом, без болова, температуре или других акутних симптома, док се појава отока због елонгације кости развија релативно к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спе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пација (Дипитренов феномен и феномен флукту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спи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ио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Korisnik</cp:lastModifiedBy>
  <dcterms:modified xsi:type="dcterms:W3CDTF">2019-09-09T16:03:53Z</dcterms:modified>
  <cp:revision>1728</cp:revision>
  <dc:subject/>
  <dc:title>NAZIV PREDAVANJA</dc:title>
</cp:coreProperties>
</file>